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1D7-52FC-4A1E-88B1-9E6BE4C2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E4A-BBE6-4896-B1F6-FF391FB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87A-D863-4C38-8758-48BFCA14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F8E-7C04-4887-A4F0-E7004BEF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61F-3B22-4805-BF80-A06D198B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AEC7-764E-4B60-8C2C-552CE98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209E-DFCB-4EBA-9AED-7CEDA29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1268-D17E-450D-BA05-32E3F81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9EB-8859-40FB-BB86-503F069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AE8-24D4-45CF-A016-F0A3B5A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6530-385B-47F5-ABA6-6033037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EED-80D7-4805-82FD-667F280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C642-9103-4C01-8C2D-D4A3BAB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08B-E1D4-4E1D-9DDB-B66545C5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793-4130-4381-AD63-313F42F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B8B-3DEA-4F17-9A96-951A3598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68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304520"/>
            <a:ext cx="267588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988-DC25-421D-918A-591FF1EA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86A-2E97-4DCF-8A8D-EDF92B4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1BB-568D-4525-8BDA-9C11F031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172-9B93-4DD0-90AE-741EBC0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554-D00B-4F50-ACCB-36B30EDA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720-3ADF-40F4-9500-FEDEBF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30452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92A-5B64-41C8-AED6-47D7966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680"/>
            <a:ext cx="40554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304520"/>
            <a:ext cx="8310600" cy="198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514-512E-4930-90EE-D320BC4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86E40-0E67-4BD8-BE4A-34F00B0C9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680"/>
            <a:ext cx="83106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5B0BF-8FB6-422F-8215-435456E20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706320"/>
            <a:ext cx="86756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a and Pop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Bea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ose who defied the social expectations        of conformity; Beatni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Art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o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“Hippies”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. African American Entertai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792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African Americans shut        out of tel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Musical artists did not          have as much                      trou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Chuck Ber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Little Rich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Ray Char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Influenced future musical     art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19880" y="2158920"/>
            <a:ext cx="4057560" cy="41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what          caused the baby b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how          the workplace changed during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           changes in media in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New Mass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o more than 8,000 TVs in America in       19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By 1957 nearly 40 million TVs were s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More than 80% of families had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Tele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“Golden Age” of tele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Love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one R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ckey Mouse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ore people watched a single episod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   Love Luc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the presidential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inau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Late 1950s, news and sports become             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440" y="363600"/>
            <a:ext cx="8831160" cy="69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Mov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ovie industry took a hit because of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3-D movies created to try and bring peopl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Cinemascope brought people back to the mo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ide scre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ull of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1671480"/>
            <a:ext cx="3886200" cy="54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42960"/>
            <a:ext cx="86724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Rad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5612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Broadcast news, weather, sports, and talk sh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Radio was saved by the automob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eople listen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the radio while in the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umber of stations doubled between 1948  and 1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19880" y="2454120"/>
            <a:ext cx="4055760" cy="35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Rock 'n' 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ame from rhythm and b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DJ Alan Freed dubbed it rock 'n' 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Generation gap between teens and parent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73880" y="2179800"/>
            <a:ext cx="4319280" cy="44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79488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792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arents hat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Delinqu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Immor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Concerts ban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lvis Presley first         rock 'n' roll h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86400" y="2128680"/>
            <a:ext cx="41148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07:15Z</dcterms:created>
  <dc:creator>Courtney Huro</dc:creator>
  <dc:description/>
  <dc:language>en-US</dc:language>
  <cp:lastModifiedBy>School District U46</cp:lastModifiedBy>
  <dcterms:modified xsi:type="dcterms:W3CDTF">2011-03-15T13:31:24Z</dcterms:modified>
  <cp:revision>4</cp:revision>
  <dc:subject/>
  <dc:title>Slide 1</dc:title>
</cp:coreProperties>
</file>